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3CB-1D5A-4081-90A1-75668C7C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70A-8EB2-4B64-BD60-CBCA78F2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744-0C57-4941-8B36-079BF451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628-B091-489A-A01D-B2AB9EEC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76D-E2B3-4DC4-80CC-B1008DBC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4BA-4FEE-4B26-A727-DAA747E7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C46-CC99-44CA-8E91-8A31A285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70B-ACA3-46CD-94D5-A2F2B745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37E-8985-4124-982D-02EE78D2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5F6-4973-4510-B945-3C8FD79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BB8-19CC-4CA6-9B28-FFD8B27E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878-18A7-46F5-8266-CFF514D5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A9A6-C497-4F30-A6C5-4CEE736FB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1080" y="1989000"/>
            <a:ext cx="721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Копнея, Боже мой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за Твоето лиц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395280" y="331920"/>
            <a:ext cx="8353440" cy="6265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490160" cy="561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1640" y="1197000"/>
            <a:ext cx="9109080" cy="4483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Копнея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        </a:t>
            </a: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Боже мой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             </a:t>
            </a: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за Твоето лиц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98560" y="549360"/>
            <a:ext cx="7561080" cy="567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1640" y="476280"/>
            <a:ext cx="9541080" cy="55803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Протягаш Т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      </a:t>
            </a: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с любов към мен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            </a:t>
            </a: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прободени ръц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246240"/>
            <a:ext cx="8352000" cy="6422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28720" y="549360"/>
            <a:ext cx="7559640" cy="5815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1080360" y="2346480"/>
            <a:ext cx="7294680" cy="4483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_AlbionicNr"/>
              </a:rPr>
              <a:t>О,Боже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_AlbionicNr"/>
              </a:rPr>
              <a:t>милостив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_AlbionicNr"/>
              </a:rPr>
              <a:t>към ме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_AlbionicNr"/>
              </a:rPr>
              <a:t>погледнеш ли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9760" y="41400"/>
            <a:ext cx="4236120" cy="51213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в Твоите</a:t>
            </a:r>
            <a:r>
              <a:rPr b="1" lang="bg-BG" sz="6600" spc="-1" strike="noStrike">
                <a:solidFill>
                  <a:srgbClr val="ffff00"/>
                </a:solidFill>
                <a:latin typeface="a_AlbionicN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 </a:t>
            </a: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очи</a:t>
            </a:r>
            <a:r>
              <a:rPr b="1" lang="bg-BG" sz="6600" spc="-1" strike="noStrike">
                <a:solidFill>
                  <a:srgbClr val="ffff00"/>
                </a:solidFill>
                <a:latin typeface="a_AlbionicNr"/>
              </a:rPr>
              <a:t> </a:t>
            </a: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аз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вижда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обич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как гор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61800" y="254160"/>
            <a:ext cx="8458200" cy="6343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9960" y="1773360"/>
            <a:ext cx="8000280" cy="44830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_AlbionicNr"/>
              </a:rPr>
              <a:t>И мо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    </a:t>
            </a:r>
            <a:r>
              <a:rPr b="1" lang="en-US" sz="7200" spc="-1" strike="noStrike">
                <a:solidFill>
                  <a:srgbClr val="ffff00"/>
                </a:solidFill>
                <a:latin typeface="a_AlbionicNr"/>
              </a:rPr>
              <a:t>грях с люб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_AlbionicNr"/>
              </a:rPr>
              <a:t> </a:t>
            </a:r>
            <a:r>
              <a:rPr b="1" lang="bg-BG" sz="7200" spc="-1" strike="noStrike">
                <a:solidFill>
                  <a:srgbClr val="ffff00"/>
                </a:solidFill>
                <a:latin typeface="a_AlbionicNr"/>
              </a:rPr>
              <a:t>         </a:t>
            </a:r>
            <a:r>
              <a:rPr b="1" lang="en-US" sz="7200" spc="-1" strike="noStrike">
                <a:solidFill>
                  <a:srgbClr val="ffff00"/>
                </a:solidFill>
                <a:latin typeface="a_AlbionicNr"/>
              </a:rPr>
              <a:t>прощаваш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_AlbionicNr"/>
              </a:rPr>
              <a:t>винаг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95280" y="260280"/>
            <a:ext cx="8424720" cy="6343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26920" y="646200"/>
            <a:ext cx="7521840" cy="5662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85400" y="1413000"/>
            <a:ext cx="6851160" cy="4115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В</a:t>
            </a:r>
            <a:r>
              <a:rPr b="1" lang="bg-BG" sz="6600" spc="-1" strike="noStrike">
                <a:solidFill>
                  <a:srgbClr val="ffff00"/>
                </a:solidFill>
                <a:latin typeface="a_AlbionicNr"/>
              </a:rPr>
              <a:t>ъв</a:t>
            </a: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 морскит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дълбочин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на ве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_AlbionicNr"/>
              </a:rPr>
              <a:t>го хвърляш Ти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47:27Z</dcterms:created>
  <dc:creator>TrifonTrifonow</dc:creator>
  <dc:description/>
  <dc:language>en-US</dc:language>
  <cp:lastModifiedBy>TrifonTrifonow</cp:lastModifiedBy>
  <dcterms:modified xsi:type="dcterms:W3CDTF">2005-12-15T06:47:53Z</dcterms:modified>
  <cp:revision>1</cp:revision>
  <dc:subject/>
  <dc:title>Slide 1</dc:title>
</cp:coreProperties>
</file>